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247D-261B-4C59-9E74-D37D1978F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AFE4-98B3-41E8-A60C-539AFB28D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DC9E-4C24-4446-B471-222D6CF7A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B6EF-4CA2-4E54-A705-16FFE32A1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5F5F-5DBB-4F38-9F92-A51F1B2D7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D01C-CA21-497A-B2A2-2BA33E66D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A8B6-9E9D-4529-953F-0081EB1CB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EB0B-DE42-48B8-A9B4-5F7F325D5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6626-7A84-47D3-A7E4-40C296F08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195C-7910-4CC1-B452-E80ADAF8C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ED57-82CC-4FBB-BD39-B30FA93B9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2519-25DA-4936-8E1B-109C02207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D24BE-D6BB-4578-B604-60CE7C9F03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en.wikipedia.org/wiki/View_of_Toledo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en.wikipedia.org/wiki/Las_Meninas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s pintores esp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ño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1435320" y="5446800"/>
            <a:ext cx="24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atative Rose- D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casso- 3 Musici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picasso_3musicians1921"/>
          <p:cNvPicPr/>
          <p:nvPr/>
        </p:nvPicPr>
        <p:blipFill>
          <a:blip r:embed="rId1"/>
          <a:stretch/>
        </p:blipFill>
        <p:spPr>
          <a:xfrm>
            <a:off x="2162160" y="1600200"/>
            <a:ext cx="48196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4"/>
          <p:cNvSpPr/>
          <p:nvPr/>
        </p:nvSpPr>
        <p:spPr>
          <a:xfrm>
            <a:off x="1905120" y="380880"/>
            <a:ext cx="77724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alvador Dalí (1904-1989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ttp://en.wikipedia.org/wiki/Salvador_Dal%C3%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l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í- Les Eleph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Dali elephants"/>
          <p:cNvPicPr/>
          <p:nvPr/>
        </p:nvPicPr>
        <p:blipFill>
          <a:blip r:embed="rId1"/>
          <a:stretch/>
        </p:blipFill>
        <p:spPr>
          <a:xfrm>
            <a:off x="1371600" y="1046160"/>
            <a:ext cx="640080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4"/>
          <p:cNvSpPr/>
          <p:nvPr/>
        </p:nvSpPr>
        <p:spPr>
          <a:xfrm>
            <a:off x="324360" y="152280"/>
            <a:ext cx="392508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El Greco (1541-1614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View of Toled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View_of_Toled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http://images.wikia.com/wikiart/es/images/f/ff/El_Greco_-_The_Burial_of_the_Count_of_Orgaz.JPG"/>
          <p:cNvPicPr/>
          <p:nvPr/>
        </p:nvPicPr>
        <p:blipFill>
          <a:blip r:embed="rId1"/>
          <a:stretch/>
        </p:blipFill>
        <p:spPr>
          <a:xfrm>
            <a:off x="1630440" y="0"/>
            <a:ext cx="55944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TextBox 1"/>
          <p:cNvSpPr/>
          <p:nvPr/>
        </p:nvSpPr>
        <p:spPr>
          <a:xfrm>
            <a:off x="15120" y="152280"/>
            <a:ext cx="250776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e Burial o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e Cou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Of Orgaz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án (1560-162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cotan"/>
          <p:cNvPicPr/>
          <p:nvPr/>
        </p:nvPicPr>
        <p:blipFill>
          <a:blip r:embed="rId1"/>
          <a:stretch/>
        </p:blipFill>
        <p:spPr>
          <a:xfrm>
            <a:off x="1143000" y="1062000"/>
            <a:ext cx="6781680" cy="553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990720" y="228600"/>
            <a:ext cx="7772400" cy="45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Diego Velázquez (1599-1660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en.wikipedia.org/wiki/Las_Menin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baseline="30000">
                <a:solidFill>
                  <a:srgbClr val="ffffff"/>
                </a:solidFill>
                <a:latin typeface="Arial"/>
              </a:rPr>
              <a:t>Las Meninas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 shows a large room in the Madrid palace of King Philip IV of Spain, and presents several figures, most identifiable from the Spanish court, captured, according to some commentators, in a particular moment as if in a snapshot. Th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young Infanta Margarita is surrounded by her entourage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Just behind them, Velázquez portrays himself working at a large canv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e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ázquez- An Old Woman Cooking Eg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velazquez7"/>
          <p:cNvPicPr/>
          <p:nvPr/>
        </p:nvPicPr>
        <p:blipFill>
          <a:blip r:embed="rId1"/>
          <a:stretch/>
        </p:blipFill>
        <p:spPr>
          <a:xfrm>
            <a:off x="1371600" y="1392120"/>
            <a:ext cx="6477120" cy="546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rancisco de Goya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1746-1828)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family of Charles IV 18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Francisco_de_Goya_2"/>
          <p:cNvPicPr/>
          <p:nvPr/>
        </p:nvPicPr>
        <p:blipFill>
          <a:blip r:embed="rId1"/>
          <a:stretch/>
        </p:blipFill>
        <p:spPr>
          <a:xfrm>
            <a:off x="1143000" y="1219320"/>
            <a:ext cx="674856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5"/>
          <p:cNvSpPr/>
          <p:nvPr/>
        </p:nvSpPr>
        <p:spPr>
          <a:xfrm>
            <a:off x="1371600" y="228600"/>
            <a:ext cx="7238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ya- El tres de mayo 1808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://eeweems.com/goya/3rd_of_may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7" descr="fusilmIENTOS"/>
          <p:cNvPicPr/>
          <p:nvPr/>
        </p:nvPicPr>
        <p:blipFill>
          <a:blip r:embed="rId1"/>
          <a:stretch/>
        </p:blipFill>
        <p:spPr>
          <a:xfrm>
            <a:off x="914400" y="1143000"/>
            <a:ext cx="723888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4"/>
          <p:cNvSpPr/>
          <p:nvPr/>
        </p:nvSpPr>
        <p:spPr>
          <a:xfrm>
            <a:off x="1371600" y="289080"/>
            <a:ext cx="6858000" cy="24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cc00"/>
                </a:solidFill>
                <a:latin typeface="Arial"/>
              </a:rPr>
              <a:t>Pablo Picasso (1881-1973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cc00"/>
                </a:solidFill>
                <a:latin typeface="Arial"/>
              </a:rPr>
              <a:t>Guérni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://www.abcgallery.com/P/picasso/picasso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9T15:50:17Z</dcterms:created>
  <dc:creator>jbarber</dc:creator>
  <dc:description/>
  <dc:language>en-US</dc:language>
  <cp:lastModifiedBy>Jessica Kaplan</cp:lastModifiedBy>
  <dcterms:modified xsi:type="dcterms:W3CDTF">2012-05-08T17:29:14Z</dcterms:modified>
  <cp:revision>19</cp:revision>
  <dc:subject/>
  <dc:title>Los pintores españoles</dc:title>
</cp:coreProperties>
</file>